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E638-558E-453D-A26F-E2A0C7710C7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268-E531-49E8-B080-2B5AA4445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FBD5-BF48-4D45-9C38-BEC34BE3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4DA-5F7E-4714-A4B7-47F0B404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729-CDC4-4935-AA5C-EDFE37EE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4343-E6C4-43C1-937F-104A58B6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1F46-94AA-42A3-ACED-3FE84BCF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9173-13C8-478F-A199-D2A655A1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4171-2ECB-40D5-B407-D3E4B37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BD98-BC4B-4390-ADA0-425B51C4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D38-1948-4BA2-B789-E098C13E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76B-5F5B-49E2-9DAC-279961F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729-79D7-45A2-A6C6-F4C6C427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CBEB-C6A1-41B6-9B03-3B00AAD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E9ED-F66B-4A69-8B53-198C9310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C1B5-C18B-48E8-9445-9BD7028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B43C-92DC-428E-8ED1-2A9E43F7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A9AF-732E-4010-BA4A-ED92BDBD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4069-7428-43BF-81FF-D4EE8C7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01C0-7582-4553-80FD-320EFD5A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0EFE-2D99-4147-82E5-50733B7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92B-0E52-4A0D-BB6F-24AC483A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FDA-7560-4385-888D-941588AC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95E-B182-46CF-98CE-2698B23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CA6-0738-458B-B522-7B0734DA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317F-0AD9-4CCA-B0C0-D16D2C0A170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9FD1-9DF1-4C21-8F17-ADB2CC44C3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33:21Z</dcterms:modified>
  <cp:revision>4</cp:revision>
  <dc:subject/>
  <dc:title>The 3 C’s</dc:title>
</cp:coreProperties>
</file>